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56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6400"/>
            <a:ext cx="5121000" cy="4178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7E87772-0A90-4C96-A1D6-268C0B32498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93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1680" y="4406400"/>
            <a:ext cx="5121000" cy="4178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Cr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Crime Investi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93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1680" y="4406400"/>
            <a:ext cx="5121000" cy="4178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ISSP Study Gu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793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31680" y="4406400"/>
            <a:ext cx="5121000" cy="4178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nsato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ctual damages, attorney fees, lost profits, investigation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ni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Set by Jury, punish off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uto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Damages established by law, violation entitles vict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C4DE-85E3-48AC-BF89-D5069806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DFB3-74E4-4F9F-9218-3AED4040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7D2E-D555-4B90-95EC-7D6835F1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5EB2-B106-4EF2-BBAC-37B63D20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4D3E-DBA9-4BA1-85B3-A930FAF9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CAC5-C5FE-4D5D-BC04-F0C53849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FC15-F7C8-4B35-9792-63AF08AF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E526-13FD-431C-9E8D-8F925C5F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9BD1-A965-461A-8FBF-C8DB9D93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5DA6-9D28-47AF-A71F-50FF1468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3DB8-A6C7-40D9-A7EB-14BC8057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C557-03DC-4AD1-9B15-C37EF9DA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BK REVIEW - August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319D-68C2-42DB-A9D2-A5C2CE08C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UTER LAW, INVESTIGATION AND ETHICS DOMAI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32004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e:  these are slides that were part of a CISSP prep course that I partly developed and taught while I was with Ernst and You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le these slides are dated – August 1999 -  the core information is still releva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act me w/ any questions or comments –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n Rothke, CISSP  brothke@hotmail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nagement Problem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porate Recordkee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uracy of Computer Record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Use in Cou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RS Rul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dequate Controls May Impact Audit Find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or and Management Rel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ive Bargaining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iplinary Actions, Workplace Ru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Stop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ations on Background Investig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ations on Drug and Polygraph Te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gruntled Employe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Disclosure Requir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migration La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ment and Enforcement of Security R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nagement Problems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Communication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losure thru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vesdropping and Inter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s of Confidentia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sour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act 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of Contractor’s Cap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act of Downsiz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actor Use of Proprietary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nagement Problems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 Inju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ee Safe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pal Tunnel Syndr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ation Inju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urance Against Legal 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 for Security Preca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 to Inspect Prem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peration with Insurance Comp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gal Liabili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e Car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and Customary Practice of Responsible Protection of Ass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e Diligenc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udent Management and Execution of Due C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ing Error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able Precautions for 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s of a Pro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authorized Revi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 of Backup Ver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 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ability for Database Inaccuracie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e to Security Breach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ropean Union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s on Personal Liability for Personal Inj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gal Liability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a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el Due to Inaccuracy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uthorized Release of Confidentia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ation of Visual 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eign Corrupt Practices 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date for Security Controls or Cost/Benefit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SEC Litig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gal Liability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ilure to Observe 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PS Pubs and CSL Bullet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ilure to Comply Used in Liti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 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or Inaction was Proximate Ca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ial Responsibility to Plaint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int and Several 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gal Liability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deral Sentencing Guide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8 Added 199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ble to Organiz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olations of Federal La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es Levels of F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tigation of Fines Through Implementation of Preca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vacy &amp; Other Personal Righ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ederal Privacy 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vernment Files Open to Public Unless Specif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t Applies to Executive Branch On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cord” = Information about an Individ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st be Need to Maintain Reco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closure Prohibited without Cons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quirements on Government Agenc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rd Disclos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Notice of Existence of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sure Security &amp; Confidentiality of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vacy and Other Personal Rights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 Acts and Regul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ir Information Practices Act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Information that Can be Coll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form Information Practices Code - National Conference of Commissioners on Uniform State Law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ed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utes Regulating Information Maintained by Private Organization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.., Health Care, Insu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vacy and Other Personal Rights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Employee Righ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ic Mail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ations of Priv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ug Test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to Sensitive Positions On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dom From Hostile Work 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tional Priv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ropean Statutes Cover Both Government and Private Corporate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Primarily to Computerized Data Ban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ct Rules on Disclos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hibitions of Transfer of Information Across National Bound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review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mputer crime laws and regulatio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nvestigative measures and techniqu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used to determine if a crime has been committed and methods to gather evidence; and 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thical constraint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hat provide a code of conduct for the security professiona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review 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methods for determining if a computer crime has been committ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law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hat would be applicable for the crime; laws prohibiting specific types of computer crime; methods to gather and preserv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videnc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f a computer crime,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nvestigative methods and techniqu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and ways in which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RFC 1087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(ISC)</a:t>
            </a:r>
            <a:r>
              <a:rPr b="1" lang="en-US" sz="22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Code of Ethic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an be applied to resolve ethical dilemma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vacy and Other Personal Rights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 Review with Legal Depart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all Jurisd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e Policies fo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force Poli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ument Enforc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uter-Related Law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minal La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ctim is Socie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 of Prosecution is Punish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rent Effect of Punish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rden of Proof is Reasonable Doub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lonies - Jail &gt; One 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demeanors - Jail &lt; One 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deral and State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ments of Proof Vary Between and Amo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vs. General Applic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uter Crime Law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0652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de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er Fraud and Abuse Act (Title 18, U.S. Code, 103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Accessing Federal Interest Computer (FIC) to acquire national defense 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ing an FIC to obtain financial 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ing an FIC to deny the use of the compu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Accessing an FIC to affect a frau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Damaging or denying use of an FIC thru transmission of code, program, information or comma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ing a fraud by trafficking in password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Espionage Act of 1996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taining trade secrets to benefit a foreign ent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ic Funds Transfer Act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vers use, transport, sell, receive or furnish counterfeit, altered, lost, stolen, or fraudulently obtained debit instruments in interstate or foreign commerc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deral Computer Crime Laws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ild Pornography Prevention Act of 1996 (CPPA)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hibits use of computer technology to produce child pornograph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er Security Act of 1987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s Federal Executive agencies to Establish Computer Security Program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ic Communications Privacy Act (ECPA)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hibits unauthorized interception or retrieval of electronic communica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ir Credit Reporting Act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verns types of data that companies may be collected on private citizens &amp; how it may be us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ign Corrupt Practices Act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vers improper foreign operations, but applies to all companies registered with the SEC, and requires companies to institute security program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dom of Information Act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mits public access to information collected by the Federal Executive Branch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uter Laws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vil Law (Tort Law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mage/Loss to an Individual or Bus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 of Punishment Different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Incarc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ary Purpose is Financial Restit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nsatory Damages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ual Damages, Attorney Fees, Lost Profits, Investigation Co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nitive Damages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by Jury to Punish Offen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utory Damages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ablished by La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ier to Obtain Conviction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ponderance of Evi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undment Orders/Writs of Possession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valent to Search Warra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uter Laws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La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ck of Universal Coop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ces in Interpretations of La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dated Laws Against Frau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 with Evidence Admiss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ad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uter Crim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Crime as a Separate Categ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s of Property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ck of Tangible Ass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s of Evidenc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ck of Original Docu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ts to Integrity and Confidentiality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es beyond normal definition of a lo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of Data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icult to Measure. Cases of Restitution only for Med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inology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ues have not kept pace.  Is Computer Hardware “Machinery”? Does Software quality as “Supplies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uter Crime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Crime is Hard to Def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ck of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ws are Inadequate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ow to Keep Pace with Rapidly Changing Techn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Roles for Comp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 of a Crime: Target of an Att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ject of a Crime: Used to attack (impersonating a network no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of a Crime: Used as a Means to Commit a Crime (Trojan Hors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uter Crime (continued)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iculties in Pros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ges, Lawyers, Police, Ju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angible Evi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s of Asset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Magnetic Particles, Comput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venile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erpetrators are Juven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ults Don’t Take Juvenile Crime Serious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gal Aspects of Cryptograph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hibitions on U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roa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, Fran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hibitions on Expor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, USA, GB, CAN, G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 Controls Export of Cryptography Implemented in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ctically Impossible to En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ferences Use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Handbook of Information Security Management 1999 - Krause &amp; Tipton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mputer Security Handbook, Third Edition - Hutt, Bosworth &amp; Hoyt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curity in Computing - Pfleeger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ISC)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BK Review Material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mputer Crime - Icove, Seger &amp; VonStorch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mputer, Ethics, and Society - Ermann, Williams &amp; Shauf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n Introduction to Computer Security: The NIST Handbook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ture and Extent of Computer-Related Crim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 Tamper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of Fraudulent or Fals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put Tamper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ing Computer Instru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 Tamper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ft of In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Common Cri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 and Outpu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udulent Disburs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br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Computer Crimin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ical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le, White, Yo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Prior Rec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 in Data Processing or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y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Talents are Necess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ud has Increased Because of Comp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Computer Criminal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al Motiv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gocen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olog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ycho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Computer Criminal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mental Moti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war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of Interpersonal Tr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hical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s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 Controls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Control Environ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tors that Encourage Cr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 Induc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tors that Discourage Cr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ention Meas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Controls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Control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ion Meas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UTER CRIME INVESTIG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vestigation Step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ion and Contai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idental Dis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dit Trail 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-Time Intrusion Monito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 Further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tion in 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ort to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mediate 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 Knowledge of Investi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ut-of-Band Commun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vestigation Steps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liminary Investi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if a Crime has Occu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Compla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pect Da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view Witn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ine Lo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Investigation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vestigation Steps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losure Determ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termine if Disclosure is Required by La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termine if Disclosure is Desir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ution in Dealing with the Med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rses of 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 Noth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rveill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iminate Security Ho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 Police Report Requir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 Prosecution a Goa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vestigation Steps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ing the Investi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stigative Respons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Investig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al Private Consultant Investig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/State/Federal Investig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gal Issues (Privacy, Evidence, Search &amp; Seizu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Dissem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igativ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opics to Be Covere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er La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er Cr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er Crime Investig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er Eth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vestigative Proces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Potential Su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i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si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Potential Witn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to Inter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to Conduct Inter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vestigative Process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Type of System to be Se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, Hardware &amp; Software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Expe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System in Pl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ion of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s of Pro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le Cause/War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ion of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vestigative Process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Search and Seizure Team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d Investig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Security Representa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ical Represent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tain and Serve Search Warr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e if System Is at R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of Susp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tial Destruction of Evi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vestigation Steps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e the P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e and Control Sce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 Evi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’t Touch Keybo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deotape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ture Monitor Disp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plug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e Co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ks and Dr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rch Premi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or Magnetic Media and Document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ize Other Devic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at may contain inform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vestigation Steps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uct Surveill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ysical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Subject’s Habits, Associates, Life Sty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er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t Logs or Electronic Monito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Information 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nel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phone and Fax Lo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Lo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Ca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stigative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 Known 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ment of Final Conclu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uter Forensic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uct a Disk Image Backup of Suspect Syste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 level Copy of the Disk, Sector by Se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enticate the File Syste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essage Digest for all Directories, Files &amp; Disk Sec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ze Restored Dat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 Forensic Analysis in a Controlled 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rch Tool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 View Plus, Expert Witness, Super Sleu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rching for Obscure Data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dden Files/Directories, Erased or Deleted Files, Encrypted Data, Overwritten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ganography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ding a Piece of Information within Anoth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Communications Program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s to Oth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uter Forensics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ssemble and Boot Suspect System with Clean Operat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System May Be Inf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ain System Time as Refer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Complete System Analysis Re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ot Suspect System with Original Operating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Rogue Pro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Background Pro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What System Interrupts have Been 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uter Forensics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rch Backup Medi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Forget Off-Site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rch Access Controlled Systems and Encrypted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word Crack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er Back Do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ary C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the Susp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Law on Obtaining Passwords from Susp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les of Evidenc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Evi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l Testimony by Witn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gible Objects/Physical Evid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umentary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ed Business Records, Manuals, Printo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onstrativ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o Aid the Jury (Models, Illustrations, Char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t Evidence Rul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Limit Potential for Alter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lusionary Rule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 Must be Gathered Legally or it Can’t B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rsay Rule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for Computer Generated Evi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Hand Evid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ssibility Based on Veracity and Competence of 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ions: Rule 803 of Federal Rules of Evidence (Business Documents created at the time by person with knowledge, part of regular business, routinely kept, supported by testimon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les of Evidence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in of Evidenc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ability &amp; Pro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Obtained Evi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and When it was Obta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Secured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Controlled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 for Everyone Who Had Access to or Handled the Evi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rance Against Tamp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UTER CRIME LAW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les of Evidence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ssibility of Evidenc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-generated Evidence is Always Susp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vanc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Prove a Fact that is Material to th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iabil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 Reliability of Evidence and the Process for Producing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idence Lif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ion and Identif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age, Preservation, and Transpor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ation in Cou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to Victim (Own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gal Proceeding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nse Granted Access to All Investigative Materi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ve Order Limits Who Has Acce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nd Jury and Preliminary Hear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nesses Cal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Law Enforcement Liai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a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known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very of Damag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u Civil Cou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gal Proceedings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 Mortem Review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ze Attack and Close Security Ho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cident Response Plan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formation Dissemination Polic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cident Reporting Polic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lectronic Monitoring Statement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udit Trail Polic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arning B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rohibit Unauthorized Access and Give Notice of Monitor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eed for Additional Personnel Security Control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UTER ETHIC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thics Origins and Outloo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ces Between Law and Ethic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vs. Shoul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on Go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tional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vidual Righ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lightened Self-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dition/Cul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ig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damental Changes to Socie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andbox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on Fallacies of the Computer Gener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mputer Game Fallac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 Designed to Prevent Ab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aw-Abiding Citizen Fallac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itutional Righ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hatterproof Fallac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Eff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andy-from-a-Baby Fallacy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Easy So It Must be 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acker’s Fallac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of Lear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ree Information Fallacy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Wants to Be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Computer Ethics and Responsibilities Campaign (NCER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Ethics Resource Gu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Computer Security Association (NC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Ethics Instit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91 – Ten Commandments of Computer Eth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User’s Basic Tenants of Responsible Compu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 Primary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ations for Cond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de of Fair Information Pract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acceptable Internet Activities (RFC 108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ISC)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Code of Ethic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duct to meet highest standards of moral, ethical, and legal behavio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aintain personal reputation and that of the profess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port unlawful activities and cooperate in investiga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mote prudent information security measur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vide competent service and avoid conflicts of interes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ecute responsibilities in keeping with highest professional standard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se information properl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aintain confidentiality of informa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thical Responsibiliti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ctors of Data to Data Subjects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dians of Data to Owners of Data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s of Data to Data Subjects and Owners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etitive Intelligenc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ublished Material &amp; Public Docu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closures by Competitor Employees (without Subterfug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rket Surveys &amp; Consultant’s Repor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ncial Reports &amp; Broker’s Research Survey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de Fairs, Exhibits, &amp; Competitor Litera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alysis of Competitor Produ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ports of Own Personn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gitimate Employment Interviews with Competitor Employe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prietary Rights &amp; Obliga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al Forms of Pro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de Secret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that Provides a Competitive Advantag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 Idea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right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of an Author to Prevent Use or Copying Works of the Author. Protect Expression of Idea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 Results of Science, Technology &amp; Engine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iness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 Developed Softw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actual Agre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e Trade Secrets for Employe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dustrial Espionag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mouflaged Questioning of Competitor’s Employe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 Observation under Secret Cond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lse Job Inter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lse Negoti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Professional Investiga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ring Competitor’s Employe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spa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bing Suppliers and Employe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ing Agent on Competitor Payro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vesdropp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ft of In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mail and Extor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n of Ac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 organizational guide to computer eth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 a computer ethics policy to supplement the computer security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 computer ethics information in the employee handb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and business ethics policy to include computer eth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ster user awareness of computer eth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 an E-mail privacy policy and promote user awareness of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prietary Rights &amp; Obligations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Techniques to Protect Trade Secr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ing Cop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ging Document Issu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ing Files &amp; Works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e Sto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led Distrib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ations on Copy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actual Commitments to Protect Proprietary Righ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censing Agreements with Vend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ability fo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prietary Rights &amp; Obligations (continue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men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Protection Association (SP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deration Against Software Theft (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iness Software Alliance (B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 Comp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 User Accoun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cy Development and Cir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ging of Proprietary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tection for Computer Objec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dware - Pa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m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ents for Physical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e Secret Protection for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 Code Software - Copyr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rce Code Software - Trade Secr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umentation - Copyr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7T13:11:32Z</dcterms:created>
  <dc:creator>brothke@hotmail.com</dc:creator>
  <dc:description/>
  <dc:language>en-US</dc:language>
  <cp:lastModifiedBy>BRothke</cp:lastModifiedBy>
  <cp:lastPrinted>1999-08-13T15:44:30Z</cp:lastPrinted>
  <dcterms:modified xsi:type="dcterms:W3CDTF">2003-06-12T14:48:10Z</dcterms:modified>
  <cp:revision>24</cp:revision>
  <dc:subject/>
  <dc:title>Law, Investigation &amp; Ethics</dc:title>
</cp:coreProperties>
</file>